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875-C106-4FAD-873E-478A9CB8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AF2-4AF9-48C2-A444-C3B087EE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E5F-987D-43AE-9252-4B5DD345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FFE-FC83-4595-8583-9F546ECF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AB4B-0A6D-41C7-91D6-45C34767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A176-A5CA-47B7-BB2B-0FE2B5D4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12D5-979E-45AF-BE1E-E7E9FD7B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FDBA-CCB0-49C6-983C-E9A7C011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4FDE-9AA9-4362-AC05-77D239CA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4BAB-C73A-4295-977E-3F96FF39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0BD5-30B6-4544-BD6F-879AC898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1C1-B1FB-4357-A583-E7C78E19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52BE-EAF3-447E-B0C8-1BF06D3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3190-4D75-4BB9-8A5D-2DF743B2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0EDB-FE61-4090-9812-8995D47D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2158-C0FF-46F3-97D3-B6507E96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65D2-49A3-4029-A2A3-1C37E6FF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897F-F0CD-4AFC-9BC5-5ADBA11C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AFBA1-891F-48B6-9935-F151A048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0E34B-FC55-446E-97EE-9E668110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6B976-0AF9-46CE-BB69-F7415E7A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059B-B6F7-49FB-BD73-7CC432E8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4B6-BA29-4E87-A0BD-B567809D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6674-7A26-4B5D-BB02-65444523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DCEB-29BF-410D-8275-25F55821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E34C-7DDC-4C0E-BD60-F065F714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C2D6-F747-48A8-B06A-08689C89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68E4D-04E5-4BCA-8A08-159DD73B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D7B8-A379-4425-8EC1-4118C5B6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7F42-8A60-4BCB-B0D0-15E5D4BA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963B-7563-4122-A127-0524F01C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A5192-1F09-478A-AF85-E61E0A93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5DBCA-267F-4620-9130-43FAD74E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09B-93C3-4967-BC8A-169F2211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49455-7296-47EC-A278-1CF1ABE9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BE14A-BAD9-4284-970E-48AEB722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7999F-97BD-44FB-91D7-FB50D0FD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7F08-9CF1-4758-9186-A91F0909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EC4B-FA1C-4D27-85C7-130D7F35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9D91-1B0C-4ED1-ADFF-64C042F3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AA4A3-0D18-4EE1-B220-DEAD290B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0897F-E15D-4B84-B358-339AFF23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C209-2CCF-4FF4-87CA-0C2BD385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763BD-B4EA-4B45-AB08-96DD67B9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4A8-CC8B-4F99-9B17-9F1D3E91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C331B-AF31-423C-B36D-C52D1E98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BB081-3576-4E8F-A14D-B5E20CE1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61198-9BD5-47CC-B385-7E167684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46AE8-D99E-40AF-8FF2-69689ED9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EEC6C-9B57-4F73-B9EE-DC5B234A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9E288-9650-403A-B28E-5C975F1B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62C45-991E-4BAA-8A14-97122B15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5F17-744F-458F-BE3E-F8D822E2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465EE-7D3A-4BE6-A181-2CCDF4D4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8D204-A1E7-4A43-BE89-990B0192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D58-9367-48F8-8B21-ACF5B615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7C454-A149-42DA-8AFC-0E9B1E9A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7E6-7574-4E0B-BCD1-A7670F39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62B-33DB-4FB3-B74B-D60A4532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6DA-B986-4079-A650-DCF75178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E976-9A30-40ED-92FC-3416656D3F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FC1B-E88D-4746-9DEE-D5B505C9590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C1F4-C3EE-462D-B81A-42DA409654A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2C84-643B-4DB6-ABC1-19456674FEF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(c) 2004  Paul Ti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8CBE-A765-45BC-8E12-284B69E2A39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682560" y="1481040"/>
            <a:ext cx="833292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Chapter 1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Marketing 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</a:rPr>
              <a:t>MR2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3733920" y="3429000"/>
            <a:ext cx="3504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Constrains establish the upper and lower bound for a price that can be charged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ere &amp; how a product is priced within that lower and upper bound depends on the Objectives of the organiz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various objectives that an organization has in order to set its prices depend on several facto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wanting to maximize profi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wanting to maximize Sales revenu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maximize Market shar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sell a lot of produc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maximize consumer valu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y trying to be socially responsibl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r, finally are they just trying to survive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Demand for a product is a function of two major types of thin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) The price of the product -- Usually the higher the price the lower the dema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) Factors other than price, such as consumer tastes, consumer income or the availability and price of other similar or substitutable produc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 Demand Schedule and a Demand Curve reflecting quantity demanded at different  price level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5" name="Object 5"/>
          <p:cNvGraphicFramePr/>
          <p:nvPr/>
        </p:nvGraphicFramePr>
        <p:xfrm>
          <a:off x="990720" y="2819520"/>
          <a:ext cx="320040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200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Line 7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44956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16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 Demand Schedule and a Demand Curve reflecting a shift in the demand curve brought about by a change in quantity demanded because of non price changes. Assume that the product becomes “trendy”.  Relative qty. demanded at any given price point goes up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0" name="Object 6"/>
          <p:cNvGraphicFramePr/>
          <p:nvPr/>
        </p:nvGraphicFramePr>
        <p:xfrm>
          <a:off x="685800" y="4114800"/>
          <a:ext cx="3886200" cy="20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3886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Line 10"/>
          <p:cNvSpPr/>
          <p:nvPr/>
        </p:nvSpPr>
        <p:spPr>
          <a:xfrm>
            <a:off x="51814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5181480" y="55627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5943600" y="2743200"/>
            <a:ext cx="1752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6019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502920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502920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5029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17"/>
          <p:cNvSpPr/>
          <p:nvPr/>
        </p:nvSpPr>
        <p:spPr>
          <a:xfrm>
            <a:off x="54864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18"/>
          <p:cNvSpPr/>
          <p:nvPr/>
        </p:nvSpPr>
        <p:spPr>
          <a:xfrm>
            <a:off x="50292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19"/>
          <p:cNvSpPr/>
          <p:nvPr/>
        </p:nvSpPr>
        <p:spPr>
          <a:xfrm>
            <a:off x="502920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7010280" y="2514600"/>
            <a:ext cx="16765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22"/>
          <p:cNvSpPr/>
          <p:nvPr/>
        </p:nvSpPr>
        <p:spPr>
          <a:xfrm flipV="1">
            <a:off x="6553080" y="28951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23"/>
          <p:cNvSpPr/>
          <p:nvPr/>
        </p:nvSpPr>
        <p:spPr>
          <a:xfrm flipV="1">
            <a:off x="754380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24"/>
          <p:cNvSpPr/>
          <p:nvPr/>
        </p:nvSpPr>
        <p:spPr>
          <a:xfrm>
            <a:off x="457200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25"/>
          <p:cNvSpPr/>
          <p:nvPr/>
        </p:nvSpPr>
        <p:spPr>
          <a:xfrm>
            <a:off x="64008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shifts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2; Estimate Demand and Project Revenue at that deman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erms to Kn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otal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verage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rginal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asticity of dem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MARGINAL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One way an organization can determine whether it is maximizing its potential profit is to calculate its marginal costs and marginal revenues from one level of output to the nex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marginal costs equal marginal revenue (MR=MC) stop producing/selling any more  (Why?: It costs as much to make that extra unit as the extra revenue selling that unit will bring in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is determines the level of production/sales required in order for a company to stop loosing money,  break-even and start making mone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o calculate the break even point (in units) you need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OTAL FIXED CO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UNIT VARIABLE COS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LING PRICE PER UN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Break Even Point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=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nstantia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(Selling Price per unit  - Unit Variable cost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3 - Determine a cost-profit, cost -volume relationship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REAK EVEN CH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1371600" y="2895480"/>
            <a:ext cx="0" cy="289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371600" y="5715000"/>
            <a:ext cx="7391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1295280" y="50292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7"/>
          <p:cNvSpPr/>
          <p:nvPr/>
        </p:nvSpPr>
        <p:spPr>
          <a:xfrm flipV="1">
            <a:off x="1371600" y="2819520"/>
            <a:ext cx="7086600" cy="2209680"/>
          </a:xfrm>
          <a:prstGeom prst="line">
            <a:avLst/>
          </a:prstGeom>
          <a:ln w="5724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5013360" y="2743200"/>
            <a:ext cx="19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tal Cost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318280" y="46134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ed Cost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6172200" y="3774960"/>
            <a:ext cx="35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. Cost Com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371600" y="5029200"/>
            <a:ext cx="7391520" cy="685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3505320" y="5334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ed Cost Com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990720" y="5715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7621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434340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much should it cos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es Marine Atlantic arrive at the cost of a ticket to take the Ferry from NL to N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4" descr="route_map"/>
          <p:cNvPicPr/>
          <p:nvPr/>
        </p:nvPicPr>
        <p:blipFill>
          <a:blip r:embed="rId1"/>
          <a:stretch/>
        </p:blipFill>
        <p:spPr>
          <a:xfrm>
            <a:off x="2819520" y="2743200"/>
            <a:ext cx="1724040" cy="1555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5105520" y="3200400"/>
            <a:ext cx="33526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cto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rastructure - Ship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i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2"/>
          <a:srcRect l="1708" t="12001" r="59835" b="35626"/>
          <a:stretch/>
        </p:blipFill>
        <p:spPr>
          <a:xfrm>
            <a:off x="685800" y="3505320"/>
            <a:ext cx="2666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re are 4 basic methods used to set an approximate price lev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s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rofi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mpetitive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 price that is picked is set based on the projected demand for the product.  Specific strategies includ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Skimming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High price -low volum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enetration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lower price-high volume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restige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imilar to skimming with snob appeal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560" y="20570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emand Based Metho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(cont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Price lin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Offering different models with different prices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Odd-even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etting prices with odd numbers $499.99 sounds &amp; feels better than $500.00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Demand Backward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Predict sales, set Total revenue target  take total revenue/sales in units = pric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Bundle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Offering a bundle of complementary products for a single package price - vacation packag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Value-Based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Increase benefits offered for a same or lower pric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9047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st Based Metho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 price is set based on the approximated cost of bringing the product to mark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Mark up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 The cost of the product is the basis for which the price calculation is base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tandard Mark up  &amp; Cost Plus pricing add a fixed percentage or a fixed amount to the cost to arrive at a pri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Experience Curve Pricing 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 As you get better at making products the time and cost to make each one is reduced -- therefore the price can be reduced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rofit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Profit Pricing (see calculations in text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Return on Sa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arget Return on Investment Pric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4 - Selecting an Approximate Price Lev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ompetition Based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Customary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Charge a price that is the “usual” price in the industry.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Above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-Below Market Price (Charge a price that differs from the industry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Loss-Leader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ell a promoted item at a loss or low price -- the intent is to attract customers to buy this product and in the process they will buy other regular priced items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Constantia"/>
              </a:rPr>
              <a:t>Sealed Bid Pric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(Same as a “Tender” - Suppliers are invited to bid to supply specified product(s) and the lowest bid price wins the deal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ep 5 - Set a List Pr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Based on all of the analysis done thus far in the process a “List” price can be determined.  The list price is a suggested price and may not truly reflect the price charged to all customer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Customer, Company and Competitive factors may come into play in determining whether or not a company deviates from its list pri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pecial Adjustments to the List or Quoted Pri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scou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llowa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Geographical Adjust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scounts - reductions in the list price based on some of the following reas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ason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aying Cas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Verdana"/>
              </a:rPr>
              <a:t>(C) 2004 Paul Tilley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lowances - An effective reduction in the unit price based on some of the following reas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trade in allow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promotional allow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is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nstantia"/>
              </a:rPr>
              <a:t>The money or other consideration exchange for ownership or use of a good or servic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6 - Adjustments to the List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560" y="2133360"/>
            <a:ext cx="883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Geographical Adjustments - an effective reduction or increase in the unit list price because of your geographical location relative to the suppli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Free-on-Board (FOB) pric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They will put it on the truck but you pay for the shipping co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Uniform Delivery pric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 Price is the same wherever you live -- the supplier pays the shipp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Legal Aspects of Setting Pr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Price fixing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several suppliers colluding to raise prices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Price Discrimination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Charging one price to one customer and another price to another for no reason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Deceptive Pricing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- Falsifying the true price of the item - deceiving the customer - illeg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&amp;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ice is a fixed te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Value is a relative term that is measured by the consum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Value is the ratio of perceived benefits offered to price charged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ice is made up of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Sticker (list) pr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scounts offered 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Sales, Mark-downs, Volum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lowances offered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Trade in Allowance, case allowa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lu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axes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(HST, GST, PS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ofit is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Revenue (Price x Quant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tal Cost (Fixed Costs + Variable Cos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Steps Involved in </a:t>
            </a:r>
            <a:br>
              <a:rPr sz="4500"/>
            </a:b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etting a Pri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1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dentify Pricing Constraints and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2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stimate Demand and Estimate Reven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3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termine Cost-Volume and Profit relationsh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4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a Approximate Pric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5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a list p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tep 6 --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ke special Adjustments to Quote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are practical limits under which a company must set its price range for a produ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inclu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Demand for the actual product, its class of product or the demand for the Brand na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ewness of the product -- where it is in the life cy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 single product limits the range of prices that can be charged, whereas a line of products can be offered at different prices depending on the mod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tep 1 - Identify Constraints and Objectives 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traints include: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cost of making and marketing the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costs involved in changing the prices once they are se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type of competitive market that exists.  Little competition means prices can be set by the seller whereas heavy competition means that the market sets the prices and as a result prices will tend to go dow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What other similar products sell for limits the range of price that can be charg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7:29:51Z</dcterms:created>
  <dc:creator>Debbie Vincent</dc:creator>
  <dc:description/>
  <dc:language>en-US</dc:language>
  <cp:lastModifiedBy>paul.tilley</cp:lastModifiedBy>
  <dcterms:modified xsi:type="dcterms:W3CDTF">2011-02-21T18:29:18Z</dcterms:modified>
  <cp:revision>11</cp:revision>
  <dc:subject/>
  <dc:title>Pricing:  Relating Objectives to revenues and Cos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